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03C-9A70-4AC8-8A6A-2CB590A9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A2E-EB1C-4626-AB46-42EB1D60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16A-D1B1-405C-AFC2-99F0FA26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627-81E8-4671-BE64-661721A8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4B6-20D3-4170-A2BC-C618E4F0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777-A6B6-48C8-8A40-3F5D7D6A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046-AE05-4084-B68D-48B2CAF2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39D-5544-4E8E-8B26-1058C75B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F80-EB1F-4D1E-8004-989BFCF3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EE1-D4FE-4E09-BE83-FF52098B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608-8325-4282-9CD7-480C261E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5A5-3264-4133-B660-AF3FC6CC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81EE-6FD1-49F1-A903-DAE125FAC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tT_8sFJx1w&amp;feature=player_embedded" TargetMode="External"/><Relationship Id="rId2" Type="http://schemas.openxmlformats.org/officeDocument/2006/relationships/hyperlink" Target="http://www.youtube.com/watch?v=htT_8sFJx1w&amp;feature=player_embedded" TargetMode="External"/><Relationship Id="rId3" Type="http://schemas.openxmlformats.org/officeDocument/2006/relationships/hyperlink" Target="http://www.youtube.com/watch?v=htT_8sFJx1w&amp;feature=player_embedded" TargetMode="External"/><Relationship Id="rId4" Type="http://schemas.openxmlformats.org/officeDocument/2006/relationships/hyperlink" Target="http://www.youtube.com/watch?v=htT_8sFJx1w&amp;feature=player_embedded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ome.clara.net/darvill/altenerg/hydro.htm#di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8440" y="1143000"/>
            <a:ext cx="566712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ydroelectric Pow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Kelly Br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 Bur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hydroelectric power wor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ydroelectric P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hydroelectric pow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produced by potent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 of dammed water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is driving a wa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bine and generator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=htT_8sFJx1w&amp;feature=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layer_embed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Water_turbine.jpg"/>
          <p:cNvPicPr/>
          <p:nvPr/>
        </p:nvPicPr>
        <p:blipFill>
          <a:blip r:embed="rId5"/>
          <a:stretch/>
        </p:blipFill>
        <p:spPr>
          <a:xfrm>
            <a:off x="4724280" y="1752480"/>
            <a:ext cx="3810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 hydroelectric dam work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uild a dam you usually need a large river that has a large drop in elev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m stores a lot of water behind it in a reservo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the bottom of the dam there is a water intake, which causes gravity to fall through he penstock in side the d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end of the penstock there is a turbine propeller, which works by water moving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aft from the turbine goes up into the generator which produces the pow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generator has power lines that are connected to it which gives homes po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3" descr="575px-Hydroelectric_dam_sv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43812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 of Hydroelectric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ss of a dependence on uranium, oil, or other types of fu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lution is very minim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ams can be set up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almost any size, depend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pon the river or strea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d to operate th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ydroelectric stations c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e for many years aft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re bui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no_oil.gif"/>
          <p:cNvPicPr/>
          <p:nvPr/>
        </p:nvPicPr>
        <p:blipFill>
          <a:blip r:embed="rId1"/>
          <a:stretch/>
        </p:blipFill>
        <p:spPr>
          <a:xfrm>
            <a:off x="5410080" y="220968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advantages of Hydroelectric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ms disrupt the natural flow of rivers, which will alter the river and riverside hab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edes the natural flow of sedi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ms are obstacles for fish mig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tastrophic failure, meaning if the dam were to break many people may die that live around the 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Inform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% of dams in the United States are used to make hydroelectric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20% of the world’s electricity comes from hydropower, about 10% is used in the United Sta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ve all other countries, Canada is the leading producer in hydropow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one half of the total U.S. hydroelectric capacity for electricity generation is concentrated into three states: Washington, California and Oreg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ext Placeholder 2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Text Placeholder 2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54100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Inform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lants are very hard to make, people have to put a lot of time and effort into making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roblems with there construction are that  that have to have 50 years of data before then can even build whe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want to build a d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ms are ve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nsive to bui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4191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ome.clara.net/darvill/altenerg/hydro.htm#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righthub.com/engineering/mechanical/articles/7730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illiams.edu/Geoscience/greenenergy/hydroelectric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a.water.usgs.gov/edu/hyhowwork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Hydro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2:57:44Z</dcterms:created>
  <dc:creator>Matt Burger</dc:creator>
  <dc:description/>
  <dc:language>en-US</dc:language>
  <cp:lastModifiedBy>SASD</cp:lastModifiedBy>
  <dcterms:modified xsi:type="dcterms:W3CDTF">2009-04-24T12:02:43Z</dcterms:modified>
  <cp:revision>11</cp:revision>
  <dc:subject/>
  <dc:title>Hydroelectric Energy</dc:title>
</cp:coreProperties>
</file>